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6CF-A3D1-43C6-9A0A-2191327AC417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509-058B-4174-BCA9-49CCC0BD376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7B1-5078-448A-80D9-37B7B082977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ASA Data Management Pla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commits to the full and open sharing of Earth science data obtained from NASA Earth observing satellites, sub-orbital platforms and field campaigns with all users as soon as such data become available”*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the Earth sciences specific requirements for data management plans are described in funding documents such as the annual ROSES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in general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Earth Science Data and Information System (ESDIS) has established a process for managing flight (space, airborne) projects.  A high level description can be found at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more general data management plan development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ata Management and Publishing (Univ of Minneso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B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n Weaver</cp:lastModifiedBy>
  <dcterms:modified xsi:type="dcterms:W3CDTF">2012-02-26T15:50:03Z</dcterms:modified>
  <cp:revision>42</cp:revision>
  <dc:subject/>
  <dc:title>ESIP Federation 101</dc:title>
</cp:coreProperties>
</file>